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9999-DE04-4A44-9E01-DA6AFF427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8C6E-E997-4959-963B-0CE003292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A3E9-790C-4F7C-A49C-82906BAFF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982F-6C7E-4543-896F-66E79C7A2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5F29-52B5-4098-A58D-0065EF8AE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365D-CAA7-465D-8FBB-E7B23B160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5225-85B7-4890-B961-9ED219C9C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79EF-CBE5-42A3-A529-45438D681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2366-8A3F-4795-8D96-7EC6E1823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1A02-8195-4BB0-B0D7-0F97718B5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214F-EC3D-4F3E-ABCD-9E7C52B10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3A8D-660C-4B26-BB41-1D6436096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E83C4-509F-480E-8160-006302BA02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Martin Otter</cp:lastModifiedBy>
  <dcterms:modified xsi:type="dcterms:W3CDTF">2007-11-29T08:35:17Z</dcterms:modified>
  <cp:revision>1</cp:revision>
  <dc:subject/>
  <dc:title>Folie 1</dc:title>
</cp:coreProperties>
</file>